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D634-302F-4989-9204-DB031681B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E018-4170-47D7-A9B3-3C9D06701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0362-8C39-413A-B3C9-BF041C8D9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4926-C8E1-4ABD-895F-78547A93D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3CF4-3822-437F-B861-1D58A3B9A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C054-2E0E-48ED-8715-FF93CCCB3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9630-A913-4500-85B2-52D98E0C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E8F4-A757-480E-A0A1-AB0C6BF4F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5516-F7D3-4687-BB42-E7248BC2A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D7A1-FE17-4337-8A5E-8D93248E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D577-B406-41B1-9DC7-34D94325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5894-072E-45A6-9348-CBE294F8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D9520-0C78-4EF6-AF1D-9B8D9D08B3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ShockwaveFlash1"/>
          <p:cNvGraphicFramePr/>
          <p:nvPr/>
        </p:nvGraphicFramePr>
        <p:xfrm>
          <a:off x="838080" y="380880"/>
          <a:ext cx="716436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80880"/>
                    <a:ext cx="7164360" cy="51055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23194" y="10800"/>
                </a:lnTo>
                <a:lnTo>
                  <a:pt x="9181" y="17806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3T14:45:01Z</dcterms:created>
  <dc:creator>Nan Shastry</dc:creator>
  <dc:description/>
  <dc:language>en-US</dc:language>
  <cp:lastModifiedBy>Nan Shastry</cp:lastModifiedBy>
  <dcterms:modified xsi:type="dcterms:W3CDTF">2003-12-13T14:46:19Z</dcterms:modified>
  <cp:revision>1</cp:revision>
  <dc:subject/>
  <dc:title>Slide 1</dc:title>
</cp:coreProperties>
</file>