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545-85A3-4E2A-9E23-7233322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E70-2748-487F-97C3-10A8833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0AF-35F3-4078-91F2-F5879E28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F1F-F067-4E62-9E77-91742911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9B4-E6B6-46B7-95CB-F1B0CF0E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C50-378D-4114-870F-310AFDAB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DFE-27AE-4F93-AB3F-B6426DC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FE0-EEC1-4F3D-AA8C-168B03A6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D13-6AC6-438E-B53F-799778A5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A03-523E-471E-A498-A22BF3A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F26-A0F4-4FB5-B69F-777150C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11D-549E-4833-B672-A3C2B82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129-523E-4923-BFAE-74FA89B7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228600"/>
          <a:ext cx="9142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2560" cy="457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5:09:11Z</dcterms:created>
  <dc:creator>Nan Shastry</dc:creator>
  <dc:description/>
  <dc:language>en-US</dc:language>
  <cp:lastModifiedBy>Nan Shastry</cp:lastModifiedBy>
  <dcterms:modified xsi:type="dcterms:W3CDTF">2003-12-13T15:10:35Z</dcterms:modified>
  <cp:revision>1</cp:revision>
  <dc:subject/>
  <dc:title>Slide 1</dc:title>
</cp:coreProperties>
</file>