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1A5B-7CE7-491E-BC90-7D6D121C6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2423-4418-4090-8498-0A1ACC721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2431-8DD6-4FC6-ADF6-CFFD0291D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A4B9-C97D-4217-B944-F2E7393ED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AFA3-FB3F-4B15-B205-6247F8BCC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3AA2-8301-429F-8C26-9BE01D02D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8634-5BCB-44CB-B176-34356AB03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F216-4228-4DAD-90CC-F4A7FD5B7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B747-2AB7-4E8F-ACB1-6DF7F07FE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F9AD-5E26-4F82-B0D0-F1D668728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4557-C925-41A2-A6CE-F4925EA86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8613-6E16-41D1-9453-3F41E5DAA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A1C29-1A21-4B12-9668-DCE18C5621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849320" y="386640"/>
            <a:ext cx="5596920" cy="6005520"/>
            <a:chOff x="1849320" y="386640"/>
            <a:chExt cx="5596920" cy="6005520"/>
          </a:xfrm>
        </p:grpSpPr>
        <p:sp>
          <p:nvSpPr>
            <p:cNvPr id="42" name="_s2089"/>
            <p:cNvSpPr/>
            <p:nvPr/>
          </p:nvSpPr>
          <p:spPr>
            <a:xfrm flipH="1" flipV="1">
              <a:off x="3300480" y="2637000"/>
              <a:ext cx="673560" cy="3758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_s2088"/>
            <p:cNvSpPr/>
            <p:nvPr/>
          </p:nvSpPr>
          <p:spPr>
            <a:xfrm>
              <a:off x="1849320" y="1510560"/>
              <a:ext cx="1555920" cy="150228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_s2087"/>
            <p:cNvSpPr/>
            <p:nvPr/>
          </p:nvSpPr>
          <p:spPr>
            <a:xfrm flipH="1">
              <a:off x="3300480" y="3764160"/>
              <a:ext cx="673560" cy="3751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_s2086"/>
            <p:cNvSpPr/>
            <p:nvPr/>
          </p:nvSpPr>
          <p:spPr>
            <a:xfrm>
              <a:off x="1849320" y="3764160"/>
              <a:ext cx="1555920" cy="150156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2085"/>
            <p:cNvSpPr/>
            <p:nvPr/>
          </p:nvSpPr>
          <p:spPr>
            <a:xfrm>
              <a:off x="4647960" y="4139640"/>
              <a:ext cx="0" cy="7506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2084"/>
            <p:cNvSpPr/>
            <p:nvPr/>
          </p:nvSpPr>
          <p:spPr>
            <a:xfrm>
              <a:off x="3869640" y="4890600"/>
              <a:ext cx="1555920" cy="150156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2083"/>
            <p:cNvSpPr/>
            <p:nvPr/>
          </p:nvSpPr>
          <p:spPr>
            <a:xfrm>
              <a:off x="5321160" y="3764160"/>
              <a:ext cx="673560" cy="3751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2082"/>
            <p:cNvSpPr/>
            <p:nvPr/>
          </p:nvSpPr>
          <p:spPr>
            <a:xfrm>
              <a:off x="5890320" y="3764160"/>
              <a:ext cx="1555920" cy="15015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2081"/>
            <p:cNvSpPr/>
            <p:nvPr/>
          </p:nvSpPr>
          <p:spPr>
            <a:xfrm flipV="1">
              <a:off x="5321160" y="2639520"/>
              <a:ext cx="673560" cy="3751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2080"/>
            <p:cNvSpPr/>
            <p:nvPr/>
          </p:nvSpPr>
          <p:spPr>
            <a:xfrm>
              <a:off x="5890320" y="1513080"/>
              <a:ext cx="1555920" cy="150156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2079"/>
            <p:cNvSpPr/>
            <p:nvPr/>
          </p:nvSpPr>
          <p:spPr>
            <a:xfrm flipV="1">
              <a:off x="4647960" y="1888200"/>
              <a:ext cx="0" cy="7506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2078"/>
            <p:cNvSpPr/>
            <p:nvPr/>
          </p:nvSpPr>
          <p:spPr>
            <a:xfrm>
              <a:off x="3869640" y="386640"/>
              <a:ext cx="1555920" cy="150156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2077"/>
            <p:cNvSpPr/>
            <p:nvPr/>
          </p:nvSpPr>
          <p:spPr>
            <a:xfrm>
              <a:off x="3869640" y="2639520"/>
              <a:ext cx="1555920" cy="150156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3T12:20:47Z</dcterms:created>
  <dc:creator>Nan Shastry</dc:creator>
  <dc:description/>
  <dc:language>en-US</dc:language>
  <cp:lastModifiedBy>Nan Shastry</cp:lastModifiedBy>
  <dcterms:modified xsi:type="dcterms:W3CDTF">2004-02-03T12:37:24Z</dcterms:modified>
  <cp:revision>12</cp:revision>
  <dc:subject/>
  <dc:title>Slide 1</dc:title>
</cp:coreProperties>
</file>