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906-89E6-48D8-B5A3-0EFA6CA6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C90B-6FF3-43C1-B986-3F1AC926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D616-4618-4C5C-AE4C-BDE64EF4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B056-DE43-4C30-A976-D0CAD87E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18A-7234-4189-BF08-FDCA63AA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0E86-BE3D-4626-AB0A-421F9803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845-2D1D-4CBF-9152-7B144D85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46C-64A8-4733-80CB-091A51EE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09F-5C74-4434-8B48-E8B43056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39E-E165-4842-9E41-13F1055A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EBD7-0D3D-4979-90BE-9002EA12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1E74-3162-423E-B429-91115593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9B5B-2D0E-4600-936D-1D0F7BF57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06280" y="317520"/>
            <a:ext cx="6778440" cy="4879440"/>
            <a:chOff x="1106280" y="317520"/>
            <a:chExt cx="6778440" cy="4879440"/>
          </a:xfrm>
        </p:grpSpPr>
        <p:sp>
          <p:nvSpPr>
            <p:cNvPr id="42" name="_s2092"/>
            <p:cNvSpPr/>
            <p:nvPr/>
          </p:nvSpPr>
          <p:spPr>
            <a:xfrm>
              <a:off x="3257640" y="1184400"/>
              <a:ext cx="2476080" cy="247644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93"/>
            <p:cNvSpPr/>
            <p:nvPr/>
          </p:nvSpPr>
          <p:spPr>
            <a:xfrm>
              <a:off x="3853440" y="317520"/>
              <a:ext cx="1286280" cy="6192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94"/>
            <p:cNvSpPr/>
            <p:nvPr/>
          </p:nvSpPr>
          <p:spPr>
            <a:xfrm>
              <a:off x="4071240" y="2597040"/>
              <a:ext cx="2476440" cy="24760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95"/>
            <p:cNvSpPr/>
            <p:nvPr/>
          </p:nvSpPr>
          <p:spPr>
            <a:xfrm>
              <a:off x="6598440" y="4578480"/>
              <a:ext cx="1286280" cy="618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96"/>
            <p:cNvSpPr/>
            <p:nvPr/>
          </p:nvSpPr>
          <p:spPr>
            <a:xfrm>
              <a:off x="2441160" y="2594520"/>
              <a:ext cx="2476080" cy="2476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97"/>
            <p:cNvSpPr/>
            <p:nvPr/>
          </p:nvSpPr>
          <p:spPr>
            <a:xfrm>
              <a:off x="1106280" y="4578480"/>
              <a:ext cx="1286280" cy="618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53966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2:20:47Z</dcterms:created>
  <dc:creator>Nan Shastry</dc:creator>
  <dc:description/>
  <dc:language>en-US</dc:language>
  <cp:lastModifiedBy>Nan Shastry</cp:lastModifiedBy>
  <dcterms:modified xsi:type="dcterms:W3CDTF">2004-02-03T12:42:33Z</dcterms:modified>
  <cp:revision>16</cp:revision>
  <dc:subject/>
  <dc:title>Slide 1</dc:title>
</cp:coreProperties>
</file>