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F0C-E303-4AC5-B9EA-6186C9E1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ADB-4E8C-4A18-9C5E-91E1A96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16D-D94F-4DAB-8F49-98290EAE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CA5-1EB6-4CF7-9A09-A0806DB2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FF6-5334-4766-B9CE-6775E55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F56-502E-46D1-9BB3-CB6F296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D5A-AFF3-4E42-A1C3-73B02E8D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035-60EB-460F-AAD9-BBB5AF10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64C-6373-4DF2-B7C5-EE06BBC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21F-57E1-4972-B11F-ACDA23E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FF-9F92-4D38-87EC-2F698E1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775-F69F-4258-9F9D-0AC3C72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E072-7231-4531-8FA1-57B2A98D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34840" y="891720"/>
            <a:ext cx="6134760" cy="5315040"/>
            <a:chOff x="1734840" y="891720"/>
            <a:chExt cx="6134760" cy="5315040"/>
          </a:xfrm>
        </p:grpSpPr>
        <p:sp>
          <p:nvSpPr>
            <p:cNvPr id="42" name="_s2069"/>
            <p:cNvSpPr/>
            <p:nvPr/>
          </p:nvSpPr>
          <p:spPr>
            <a:xfrm>
              <a:off x="2930400" y="891720"/>
              <a:ext cx="3741480" cy="3741840"/>
            </a:xfrm>
            <a:custGeom>
              <a:avLst/>
              <a:gdLst>
                <a:gd name="textAreaLeft" fmla="*/ 0 w 3741480"/>
                <a:gd name="textAreaRight" fmla="*/ 3741840 w 374148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0"/>
            <p:cNvSpPr/>
            <p:nvPr/>
          </p:nvSpPr>
          <p:spPr>
            <a:xfrm rot="7200000">
              <a:off x="3442680" y="1776240"/>
              <a:ext cx="3741840" cy="374184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2"/>
            <p:cNvSpPr/>
            <p:nvPr/>
          </p:nvSpPr>
          <p:spPr>
            <a:xfrm rot="14400000">
              <a:off x="2419200" y="1780200"/>
              <a:ext cx="3741840" cy="374148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480"/>
                <a:gd name="textAreaBottom" fmla="*/ 3741840 h 37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7"/>
            <p:cNvSpPr/>
            <p:nvPr/>
          </p:nvSpPr>
          <p:spPr>
            <a:xfrm>
              <a:off x="5825880" y="15768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8"/>
            <p:cNvSpPr/>
            <p:nvPr/>
          </p:nvSpPr>
          <p:spPr>
            <a:xfrm>
              <a:off x="4050360" y="465192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1"/>
            <p:cNvSpPr/>
            <p:nvPr/>
          </p:nvSpPr>
          <p:spPr>
            <a:xfrm>
              <a:off x="2274840" y="15768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32:14Z</dcterms:modified>
  <cp:revision>8</cp:revision>
  <dc:subject/>
  <dc:title>Slide 1</dc:title>
</cp:coreProperties>
</file>