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AF46F-429D-4585-A0FE-9E894CA36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F3F18-3D89-4A97-A9D9-064C30504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013A5-2CB5-4422-8D75-181CCFA05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035EE-1D03-4AA7-8255-DE0134637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935FC-E144-406D-A0E3-B91DA3F54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A5D18-94B8-44AC-8599-F3B65E808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535B9-7EE5-49CE-9B28-70E095353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E011F-EE02-4FB9-8B53-47A93F1C0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F62AC-3092-4364-8BC7-C86711CD3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B56B3-49BB-42EB-B4E9-780ED0175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03668-3429-45E4-9610-0A184F5CC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36696-8282-4A75-AE3C-EE9190E9D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9E6DF-AB79-48F9-90B3-9E4C739C94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2400480" y="1547640"/>
            <a:ext cx="4343400" cy="3760560"/>
            <a:chOff x="2400480" y="1547640"/>
            <a:chExt cx="4343400" cy="3760560"/>
          </a:xfrm>
        </p:grpSpPr>
        <p:sp>
          <p:nvSpPr>
            <p:cNvPr id="42" name="_s2062"/>
            <p:cNvSpPr/>
            <p:nvPr/>
          </p:nvSpPr>
          <p:spPr>
            <a:xfrm flipV="1">
              <a:off x="3848040" y="1547640"/>
              <a:ext cx="1447920" cy="1254240"/>
            </a:xfrm>
            <a:custGeom>
              <a:avLst/>
              <a:gdLst>
                <a:gd name="textAreaLeft" fmla="*/ 519480 w 1447920"/>
                <a:gd name="textAreaRight" fmla="*/ 928440 w 1447920"/>
                <a:gd name="textAreaTop" fmla="*/ 450000 h 1254240"/>
                <a:gd name="textAreaBottom" fmla="*/ 804240 h 1254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99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_s2063"/>
            <p:cNvSpPr/>
            <p:nvPr/>
          </p:nvSpPr>
          <p:spPr>
            <a:xfrm flipV="1">
              <a:off x="3124080" y="2801520"/>
              <a:ext cx="2895840" cy="1254240"/>
            </a:xfrm>
            <a:custGeom>
              <a:avLst/>
              <a:gdLst>
                <a:gd name="textAreaLeft" fmla="*/ 636840 w 2895840"/>
                <a:gd name="textAreaRight" fmla="*/ 2259000 w 2895840"/>
                <a:gd name="textAreaTop" fmla="*/ 275760 h 1254240"/>
                <a:gd name="textAreaBottom" fmla="*/ 978480 h 1254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00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_s2064"/>
            <p:cNvSpPr/>
            <p:nvPr/>
          </p:nvSpPr>
          <p:spPr>
            <a:xfrm flipV="1">
              <a:off x="2400480" y="4055400"/>
              <a:ext cx="4343400" cy="1252440"/>
            </a:xfrm>
            <a:custGeom>
              <a:avLst/>
              <a:gdLst>
                <a:gd name="textAreaLeft" fmla="*/ 753840 w 4343400"/>
                <a:gd name="textAreaRight" fmla="*/ 3589560 w 4343400"/>
                <a:gd name="textAreaTop" fmla="*/ 217440 h 1252440"/>
                <a:gd name="textAreaBottom" fmla="*/ 1035000 h 1252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3366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03T12:20:47Z</dcterms:created>
  <dc:creator>Nan Shastry</dc:creator>
  <dc:description/>
  <dc:language>en-US</dc:language>
  <cp:lastModifiedBy>Nan Shastry</cp:lastModifiedBy>
  <dcterms:modified xsi:type="dcterms:W3CDTF">2004-02-03T12:25:06Z</dcterms:modified>
  <cp:revision>4</cp:revision>
  <dc:subject/>
  <dc:title>Slide 1</dc:title>
</cp:coreProperties>
</file>