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B4B-5923-4840-BB36-6DEBA7C9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200-7C3C-414E-AAE0-57447AD8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4DE-8F83-4208-A3D0-249CF943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02B-4DA0-4B6C-998F-CEF31017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CA1-C8B4-4391-8670-D3E934C9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8FD-752C-41BA-A502-D224E82A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478-84DD-4638-BFBC-E28E29FB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759-21DA-47CE-A836-EC767524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179-CE2E-41A6-8B59-1D0134D2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6DC-6B03-436F-875E-83C6CB2A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D2A-2BEE-42F6-8AC1-7E5629C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314-2C6E-42CC-B64B-D4DF58EB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14E5-B273-4E88-B8D5-C2FBE994B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efefe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38880" y="539640"/>
            <a:ext cx="5855040" cy="4633920"/>
            <a:chOff x="1838880" y="539640"/>
            <a:chExt cx="5855040" cy="4633920"/>
          </a:xfrm>
        </p:grpSpPr>
        <p:sp>
          <p:nvSpPr>
            <p:cNvPr id="42" name="_s2058"/>
            <p:cNvSpPr/>
            <p:nvPr/>
          </p:nvSpPr>
          <p:spPr>
            <a:xfrm>
              <a:off x="1838880" y="1837800"/>
              <a:ext cx="3634560" cy="3335760"/>
            </a:xfrm>
            <a:prstGeom prst="donut">
              <a:avLst>
                <a:gd name="adj" fmla="val 166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59"/>
            <p:cNvSpPr/>
            <p:nvPr/>
          </p:nvSpPr>
          <p:spPr>
            <a:xfrm>
              <a:off x="6725880" y="2022120"/>
              <a:ext cx="968040" cy="741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56"/>
            <p:cNvSpPr/>
            <p:nvPr/>
          </p:nvSpPr>
          <p:spPr>
            <a:xfrm>
              <a:off x="2443680" y="2392920"/>
              <a:ext cx="2422800" cy="2223720"/>
            </a:xfrm>
            <a:prstGeom prst="donut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57"/>
            <p:cNvSpPr/>
            <p:nvPr/>
          </p:nvSpPr>
          <p:spPr>
            <a:xfrm>
              <a:off x="6725880" y="1280880"/>
              <a:ext cx="968040" cy="741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54"/>
            <p:cNvSpPr/>
            <p:nvPr/>
          </p:nvSpPr>
          <p:spPr>
            <a:xfrm>
              <a:off x="3050640" y="2949840"/>
              <a:ext cx="1211400" cy="11116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5"/>
            <p:cNvSpPr/>
            <p:nvPr/>
          </p:nvSpPr>
          <p:spPr>
            <a:xfrm>
              <a:off x="6725880" y="539640"/>
              <a:ext cx="968040" cy="741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22:22Z</dcterms:modified>
  <cp:revision>2</cp:revision>
  <dc:subject/>
  <dc:title>Slide 1</dc:title>
</cp:coreProperties>
</file>