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26A0C-CA6B-48DF-B4D8-AD2340201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F4E7C-9069-4CEF-AF4F-8D3D927CF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4D21E-1870-4386-A8E4-19FAE0B9E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AD31B-AEF7-444C-86CE-D6D4F2182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254CA-045A-4D92-8E3A-DBB3FF787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90321-8509-47C8-A496-A9E219527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6DFC3-184D-4FFF-B4B7-2731C7EC7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957FF-DB51-4874-A345-CBCFE9FC5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E9207-028F-43AF-8090-9ACE54318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E7D93-CFBC-4A19-972A-C1611B711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AD675-8918-491E-80AA-98FC351CF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2E94C-4C6A-4B42-9503-2E643A73F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EE01A-5F28-4BF2-B26C-FE1D52C555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0000"/>
            </a:gs>
            <a:gs pos="100000">
              <a:srgbClr val="99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734840" y="891720"/>
            <a:ext cx="6134760" cy="5315040"/>
            <a:chOff x="1734840" y="891720"/>
            <a:chExt cx="6134760" cy="5315040"/>
          </a:xfrm>
        </p:grpSpPr>
        <p:sp>
          <p:nvSpPr>
            <p:cNvPr id="42" name="_s2069"/>
            <p:cNvSpPr/>
            <p:nvPr/>
          </p:nvSpPr>
          <p:spPr>
            <a:xfrm>
              <a:off x="2930400" y="891720"/>
              <a:ext cx="3741480" cy="3741840"/>
            </a:xfrm>
            <a:custGeom>
              <a:avLst/>
              <a:gdLst>
                <a:gd name="textAreaLeft" fmla="*/ 0 w 3741480"/>
                <a:gd name="textAreaRight" fmla="*/ 3741840 w 3741480"/>
                <a:gd name="textAreaTop" fmla="*/ 0 h 3741840"/>
                <a:gd name="textAreaBottom" fmla="*/ 3742200 h 3741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ffff"/>
            </a:solidFill>
            <a:ln w="7632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_s2070"/>
            <p:cNvSpPr/>
            <p:nvPr/>
          </p:nvSpPr>
          <p:spPr>
            <a:xfrm rot="7200000">
              <a:off x="3442680" y="1776240"/>
              <a:ext cx="3741840" cy="3741840"/>
            </a:xfrm>
            <a:custGeom>
              <a:avLst/>
              <a:gdLst>
                <a:gd name="textAreaLeft" fmla="*/ 0 w 3741840"/>
                <a:gd name="textAreaRight" fmla="*/ 3742200 w 3741840"/>
                <a:gd name="textAreaTop" fmla="*/ 0 h 3741840"/>
                <a:gd name="textAreaBottom" fmla="*/ 3742200 h 3741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ffff"/>
            </a:solidFill>
            <a:ln w="7632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_s2072"/>
            <p:cNvSpPr/>
            <p:nvPr/>
          </p:nvSpPr>
          <p:spPr>
            <a:xfrm rot="14400000">
              <a:off x="2419200" y="1780200"/>
              <a:ext cx="3741840" cy="3741480"/>
            </a:xfrm>
            <a:custGeom>
              <a:avLst/>
              <a:gdLst>
                <a:gd name="textAreaLeft" fmla="*/ 0 w 3741840"/>
                <a:gd name="textAreaRight" fmla="*/ 3742200 w 3741840"/>
                <a:gd name="textAreaTop" fmla="*/ 0 h 3741480"/>
                <a:gd name="textAreaBottom" fmla="*/ 3741840 h 3741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ffff"/>
            </a:solidFill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_s2067"/>
            <p:cNvSpPr/>
            <p:nvPr/>
          </p:nvSpPr>
          <p:spPr>
            <a:xfrm>
              <a:off x="5825880" y="1576800"/>
              <a:ext cx="1501920" cy="150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_s2068"/>
            <p:cNvSpPr/>
            <p:nvPr/>
          </p:nvSpPr>
          <p:spPr>
            <a:xfrm>
              <a:off x="4050360" y="4651920"/>
              <a:ext cx="1501920" cy="150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_s2071"/>
            <p:cNvSpPr/>
            <p:nvPr/>
          </p:nvSpPr>
          <p:spPr>
            <a:xfrm>
              <a:off x="2274840" y="1576800"/>
              <a:ext cx="1501920" cy="150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03T12:20:47Z</dcterms:created>
  <dc:creator>Nan Shastry</dc:creator>
  <dc:description/>
  <dc:language>en-US</dc:language>
  <cp:lastModifiedBy>Nan Shastry</cp:lastModifiedBy>
  <dcterms:modified xsi:type="dcterms:W3CDTF">2004-02-03T12:34:34Z</dcterms:modified>
  <cp:revision>9</cp:revision>
  <dc:subject/>
  <dc:title>Slide 1</dc:title>
</cp:coreProperties>
</file>