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F22D-DEAE-493D-A9D6-495F96313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4EF2-FAD2-4253-98AB-DA064D02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B2B4-1031-4F81-8F9E-12D558124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AE65-8480-4751-942A-67DA11AF1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BCE5-27C6-4D16-B242-86193C9D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3666-B41F-43A5-8E9E-FEB82F92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3A2E-D7E4-4494-AA5D-37322976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60EB-9E8D-4B8E-915A-BEC8BAAB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3401-0C15-42BD-8499-4DB5389E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5BB6-2F79-48B2-906D-3613B606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6D2F-8219-4F26-A482-3170E23E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6791-5F15-47E8-A18E-AC85EF23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C3F0-119C-495D-AC6A-841DCFEF5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400480" y="1547640"/>
            <a:ext cx="4343400" cy="3760560"/>
            <a:chOff x="2400480" y="1547640"/>
            <a:chExt cx="4343400" cy="3760560"/>
          </a:xfrm>
        </p:grpSpPr>
        <p:sp>
          <p:nvSpPr>
            <p:cNvPr id="42" name="_s2062"/>
            <p:cNvSpPr/>
            <p:nvPr/>
          </p:nvSpPr>
          <p:spPr>
            <a:xfrm flipV="1">
              <a:off x="3848040" y="1547640"/>
              <a:ext cx="1447920" cy="1254240"/>
            </a:xfrm>
            <a:custGeom>
              <a:avLst/>
              <a:gdLst>
                <a:gd name="textAreaLeft" fmla="*/ 519480 w 1447920"/>
                <a:gd name="textAreaRight" fmla="*/ 928440 w 1447920"/>
                <a:gd name="textAreaTop" fmla="*/ 450000 h 1254240"/>
                <a:gd name="textAreaBottom" fmla="*/ 804240 h 125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ccff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2063"/>
            <p:cNvSpPr/>
            <p:nvPr/>
          </p:nvSpPr>
          <p:spPr>
            <a:xfrm flipV="1">
              <a:off x="3124080" y="2801520"/>
              <a:ext cx="2895840" cy="1254240"/>
            </a:xfrm>
            <a:custGeom>
              <a:avLst/>
              <a:gdLst>
                <a:gd name="textAreaLeft" fmla="*/ 636840 w 2895840"/>
                <a:gd name="textAreaRight" fmla="*/ 2259000 w 2895840"/>
                <a:gd name="textAreaTop" fmla="*/ 275760 h 1254240"/>
                <a:gd name="textAreaBottom" fmla="*/ 978480 h 125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2064"/>
            <p:cNvSpPr/>
            <p:nvPr/>
          </p:nvSpPr>
          <p:spPr>
            <a:xfrm flipV="1">
              <a:off x="2400480" y="4055400"/>
              <a:ext cx="4343400" cy="1252440"/>
            </a:xfrm>
            <a:custGeom>
              <a:avLst/>
              <a:gdLst>
                <a:gd name="textAreaLeft" fmla="*/ 753840 w 4343400"/>
                <a:gd name="textAreaRight" fmla="*/ 3589560 w 4343400"/>
                <a:gd name="textAreaTop" fmla="*/ 217440 h 1252440"/>
                <a:gd name="textAreaBottom" fmla="*/ 1035000 h 125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33996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12:20:47Z</dcterms:created>
  <dc:creator>Nan Shastry</dc:creator>
  <dc:description/>
  <dc:language>en-US</dc:language>
  <cp:lastModifiedBy>Nan Shastry</cp:lastModifiedBy>
  <dcterms:modified xsi:type="dcterms:W3CDTF">2004-02-03T12:25:42Z</dcterms:modified>
  <cp:revision>5</cp:revision>
  <dc:subject/>
  <dc:title>Slide 1</dc:title>
</cp:coreProperties>
</file>