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CF2-81ED-4D7C-B8EF-ED6C9816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732-EA61-4EA5-A307-31DF573E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7BE-4857-47F2-B833-EC75559A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C31-A189-45B7-BE5D-8FB0CB3D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E3A-5E4D-4753-A263-0046A490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258-2CD0-445E-A51F-032C9986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4AD-6ED2-4B4E-B01D-76FF6D45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72E-548F-4ED6-96B2-80745D2D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366-27A6-4477-B27C-763507B3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B35-6B41-4CE3-8596-A7F47BB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456-BB4B-4894-ACE8-A3E6D53E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B96-3D2C-41D1-9F54-EDA43396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5C2A-D402-4F77-B616-6C9A4DEB2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06280" y="317520"/>
            <a:ext cx="6778440" cy="4879440"/>
            <a:chOff x="1106280" y="317520"/>
            <a:chExt cx="6778440" cy="4879440"/>
          </a:xfrm>
        </p:grpSpPr>
        <p:sp>
          <p:nvSpPr>
            <p:cNvPr id="42" name="_s2092"/>
            <p:cNvSpPr/>
            <p:nvPr/>
          </p:nvSpPr>
          <p:spPr>
            <a:xfrm>
              <a:off x="3257640" y="1184400"/>
              <a:ext cx="2476080" cy="247644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93"/>
            <p:cNvSpPr/>
            <p:nvPr/>
          </p:nvSpPr>
          <p:spPr>
            <a:xfrm>
              <a:off x="3853440" y="317520"/>
              <a:ext cx="12862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94"/>
            <p:cNvSpPr/>
            <p:nvPr/>
          </p:nvSpPr>
          <p:spPr>
            <a:xfrm>
              <a:off x="4071240" y="2597040"/>
              <a:ext cx="2476440" cy="24760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95"/>
            <p:cNvSpPr/>
            <p:nvPr/>
          </p:nvSpPr>
          <p:spPr>
            <a:xfrm>
              <a:off x="6598440" y="4578480"/>
              <a:ext cx="128628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96"/>
            <p:cNvSpPr/>
            <p:nvPr/>
          </p:nvSpPr>
          <p:spPr>
            <a:xfrm>
              <a:off x="2441160" y="2594520"/>
              <a:ext cx="2476080" cy="247644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97"/>
            <p:cNvSpPr/>
            <p:nvPr/>
          </p:nvSpPr>
          <p:spPr>
            <a:xfrm>
              <a:off x="1106280" y="4578480"/>
              <a:ext cx="128628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41:27Z</dcterms:modified>
  <cp:revision>14</cp:revision>
  <dc:subject/>
  <dc:title>Slide 1</dc:title>
</cp:coreProperties>
</file>