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F448-C93A-4402-9BA9-9188D1769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5D73-A2AC-43FF-BDE4-760A519B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F610-A37E-4345-8001-26B31EEB1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8DE1-FFD4-42A5-9DB4-C3AC872E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F297-3F70-49D1-BA3B-A2BCA9E7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8670-927B-4274-81C1-EC871DD6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ECA4-DA13-4500-BC53-5E656062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5987-8E6B-4A3F-BE48-FB9A502C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33A6-39E1-4372-AAB1-F85174CE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D46B-90E6-4046-A534-4D176360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8DFC-503C-4CE5-B367-7AD36954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66E7-1E67-43EB-9993-AF33B851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AF55-7468-4A3B-A22E-BC2459B8A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06280" y="317520"/>
            <a:ext cx="6778440" cy="4879440"/>
            <a:chOff x="1106280" y="317520"/>
            <a:chExt cx="6778440" cy="4879440"/>
          </a:xfrm>
        </p:grpSpPr>
        <p:sp>
          <p:nvSpPr>
            <p:cNvPr id="42" name="_s2092"/>
            <p:cNvSpPr/>
            <p:nvPr/>
          </p:nvSpPr>
          <p:spPr>
            <a:xfrm>
              <a:off x="3257640" y="1184400"/>
              <a:ext cx="2476080" cy="247644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93"/>
            <p:cNvSpPr/>
            <p:nvPr/>
          </p:nvSpPr>
          <p:spPr>
            <a:xfrm>
              <a:off x="3853440" y="317520"/>
              <a:ext cx="128628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94"/>
            <p:cNvSpPr/>
            <p:nvPr/>
          </p:nvSpPr>
          <p:spPr>
            <a:xfrm>
              <a:off x="4071240" y="2597040"/>
              <a:ext cx="2476440" cy="247608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2095"/>
            <p:cNvSpPr/>
            <p:nvPr/>
          </p:nvSpPr>
          <p:spPr>
            <a:xfrm>
              <a:off x="6598440" y="4578480"/>
              <a:ext cx="1286280" cy="61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96"/>
            <p:cNvSpPr/>
            <p:nvPr/>
          </p:nvSpPr>
          <p:spPr>
            <a:xfrm>
              <a:off x="2441160" y="2594520"/>
              <a:ext cx="2476080" cy="247644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097"/>
            <p:cNvSpPr/>
            <p:nvPr/>
          </p:nvSpPr>
          <p:spPr>
            <a:xfrm>
              <a:off x="1106280" y="4578480"/>
              <a:ext cx="1286280" cy="61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12:20:47Z</dcterms:created>
  <dc:creator>Nan Shastry</dc:creator>
  <dc:description/>
  <dc:language>en-US</dc:language>
  <cp:lastModifiedBy>Nan Shastry</cp:lastModifiedBy>
  <dcterms:modified xsi:type="dcterms:W3CDTF">2004-02-03T12:41:52Z</dcterms:modified>
  <cp:revision>15</cp:revision>
  <dc:subject/>
  <dc:title>Slide 1</dc:title>
</cp:coreProperties>
</file>