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87C-D5C7-4B21-AF41-A2472235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045-E892-431B-B410-90F5BD57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2C6-704E-4AF0-8F10-D59AC784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E31-3081-4600-81FE-4EBF5029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6A0-92D7-49C2-A79B-D630E446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469-5162-4699-BC19-72F63DD5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4C8-CFF1-4E31-821E-F06BF987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E1B-E543-4047-9918-79D453A4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995-247C-4460-9E54-8A481499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2AC-EB1E-455D-9571-4D22826A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40E-8BB7-40E7-95A8-34C007F7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128-5439-43FA-BEF1-49158B04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0BD8-D3A4-4540-9485-6E1B12792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00480" y="1547640"/>
            <a:ext cx="4343400" cy="3760560"/>
            <a:chOff x="2400480" y="1547640"/>
            <a:chExt cx="4343400" cy="3760560"/>
          </a:xfrm>
        </p:grpSpPr>
        <p:sp>
          <p:nvSpPr>
            <p:cNvPr id="42" name="_s2062"/>
            <p:cNvSpPr/>
            <p:nvPr/>
          </p:nvSpPr>
          <p:spPr>
            <a:xfrm flipV="1">
              <a:off x="3848040" y="1547640"/>
              <a:ext cx="1447920" cy="1254240"/>
            </a:xfrm>
            <a:custGeom>
              <a:avLst/>
              <a:gdLst>
                <a:gd name="textAreaLeft" fmla="*/ 519480 w 1447920"/>
                <a:gd name="textAreaRight" fmla="*/ 928440 w 1447920"/>
                <a:gd name="textAreaTop" fmla="*/ 450000 h 1254240"/>
                <a:gd name="textAreaBottom" fmla="*/ 80424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63"/>
            <p:cNvSpPr/>
            <p:nvPr/>
          </p:nvSpPr>
          <p:spPr>
            <a:xfrm flipV="1">
              <a:off x="3124080" y="2801520"/>
              <a:ext cx="2895840" cy="1254240"/>
            </a:xfrm>
            <a:custGeom>
              <a:avLst/>
              <a:gdLst>
                <a:gd name="textAreaLeft" fmla="*/ 636840 w 2895840"/>
                <a:gd name="textAreaRight" fmla="*/ 2259000 w 2895840"/>
                <a:gd name="textAreaTop" fmla="*/ 275760 h 1254240"/>
                <a:gd name="textAreaBottom" fmla="*/ 97848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4"/>
            <p:cNvSpPr/>
            <p:nvPr/>
          </p:nvSpPr>
          <p:spPr>
            <a:xfrm flipV="1">
              <a:off x="2400480" y="4055400"/>
              <a:ext cx="4343400" cy="1252440"/>
            </a:xfrm>
            <a:custGeom>
              <a:avLst/>
              <a:gdLst>
                <a:gd name="textAreaLeft" fmla="*/ 753840 w 4343400"/>
                <a:gd name="textAreaRight" fmla="*/ 3589560 w 4343400"/>
                <a:gd name="textAreaTop" fmla="*/ 217440 h 1252440"/>
                <a:gd name="textAreaBottom" fmla="*/ 1035000 h 12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26:48Z</dcterms:modified>
  <cp:revision>6</cp:revision>
  <dc:subject/>
  <dc:title>Slide 1</dc:title>
</cp:coreProperties>
</file>