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58A-3EA2-4238-B370-599E0C73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08B-6C62-446A-80CC-D98F952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60E-3275-4470-A122-B733F32F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D41-4493-465C-B774-6ABD226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2FB-65CE-4041-A375-0F8D0EBE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D1E-D0FF-44C5-92C6-999DFAF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D1B-7E3C-43BE-9153-9F3F1C3A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D4A-B376-4AC1-8287-4C04251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317-AC23-4D76-BCBF-F3F5C15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1CF-D92F-4DAF-AD21-287D3B4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16C-A24E-44D2-907F-A37CEC44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C99-7442-41D4-9225-87667FEB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7E0E-E87F-49BD-BB30-C1DF85AF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38880" y="539640"/>
            <a:ext cx="5855040" cy="4633920"/>
            <a:chOff x="1838880" y="539640"/>
            <a:chExt cx="5855040" cy="4633920"/>
          </a:xfrm>
        </p:grpSpPr>
        <p:sp>
          <p:nvSpPr>
            <p:cNvPr id="42" name="_s2058"/>
            <p:cNvSpPr/>
            <p:nvPr/>
          </p:nvSpPr>
          <p:spPr>
            <a:xfrm>
              <a:off x="1838880" y="1837800"/>
              <a:ext cx="3634560" cy="3335760"/>
            </a:xfrm>
            <a:prstGeom prst="donut">
              <a:avLst>
                <a:gd name="adj" fmla="val 16666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9"/>
            <p:cNvSpPr/>
            <p:nvPr/>
          </p:nvSpPr>
          <p:spPr>
            <a:xfrm>
              <a:off x="6725880" y="202212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56"/>
            <p:cNvSpPr/>
            <p:nvPr/>
          </p:nvSpPr>
          <p:spPr>
            <a:xfrm>
              <a:off x="2443680" y="2392920"/>
              <a:ext cx="2422800" cy="222372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57"/>
            <p:cNvSpPr/>
            <p:nvPr/>
          </p:nvSpPr>
          <p:spPr>
            <a:xfrm>
              <a:off x="6725880" y="128088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4"/>
            <p:cNvSpPr/>
            <p:nvPr/>
          </p:nvSpPr>
          <p:spPr>
            <a:xfrm>
              <a:off x="3050640" y="2949840"/>
              <a:ext cx="1211400" cy="111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5"/>
            <p:cNvSpPr/>
            <p:nvPr/>
          </p:nvSpPr>
          <p:spPr>
            <a:xfrm>
              <a:off x="6725880" y="539640"/>
              <a:ext cx="968040" cy="741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1:27Z</dcterms:modified>
  <cp:revision>1</cp:revision>
  <dc:subject/>
  <dc:title>Slide 1</dc:title>
</cp:coreProperties>
</file>