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172-4118-4B46-968D-04169CCD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BBC-E0CF-4923-BB4B-AF47E5B8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C70-7F3A-481F-9C60-A6FFF30A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3B5-B736-4208-9AD3-C313AC8D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3E3-F77E-49F0-9978-6E19F39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669-AA72-4B7D-83FD-AF4ADE9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A67-5D7C-4F37-80C5-F8250D4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EBD-8F9B-4EEE-A137-7F6B7ACE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5B1-ED86-40C7-921C-377BFFE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018-9F0E-44DE-A83C-8D6ED292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176-015A-444E-B52E-FCCC288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B28-61E3-4567-AE64-AD3A156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9E7-E139-4F70-8FE7-E83649CD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58880" y="1120320"/>
            <a:ext cx="6134400" cy="5315040"/>
            <a:chOff x="1658880" y="1120320"/>
            <a:chExt cx="6134400" cy="5315040"/>
          </a:xfrm>
        </p:grpSpPr>
        <p:sp>
          <p:nvSpPr>
            <p:cNvPr id="42" name="_s2069"/>
            <p:cNvSpPr/>
            <p:nvPr/>
          </p:nvSpPr>
          <p:spPr>
            <a:xfrm>
              <a:off x="2854080" y="1120320"/>
              <a:ext cx="3741840" cy="374184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0"/>
            <p:cNvSpPr/>
            <p:nvPr/>
          </p:nvSpPr>
          <p:spPr>
            <a:xfrm rot="7200000">
              <a:off x="3366360" y="2004480"/>
              <a:ext cx="3741840" cy="374220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2200"/>
                <a:gd name="textAreaBottom" fmla="*/ 3742560 h 374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2"/>
            <p:cNvSpPr/>
            <p:nvPr/>
          </p:nvSpPr>
          <p:spPr>
            <a:xfrm rot="14400000">
              <a:off x="2343600" y="2008440"/>
              <a:ext cx="3741840" cy="374184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7"/>
            <p:cNvSpPr/>
            <p:nvPr/>
          </p:nvSpPr>
          <p:spPr>
            <a:xfrm>
              <a:off x="5749920" y="18054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8"/>
            <p:cNvSpPr/>
            <p:nvPr/>
          </p:nvSpPr>
          <p:spPr>
            <a:xfrm>
              <a:off x="3974040" y="488052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1"/>
            <p:cNvSpPr/>
            <p:nvPr/>
          </p:nvSpPr>
          <p:spPr>
            <a:xfrm>
              <a:off x="2198520" y="1805400"/>
              <a:ext cx="1501920" cy="15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29:37Z</dcterms:modified>
  <cp:revision>7</cp:revision>
  <dc:subject/>
  <dc:title>Slide 1</dc:title>
</cp:coreProperties>
</file>