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D6D-CEDF-455A-B6F5-EB71C010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788-5C05-4EB6-8F16-8C1A11F7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8B3-B62E-4D6F-9E65-1A87A24E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0FD-B7E4-4BB7-B914-92821D29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929-09D9-43CA-B817-DBE40753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51C-F945-4913-8754-8143F754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AEB-2F9F-49B4-801C-C823E84A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CCB-22E0-49DA-9DEA-70AD43E2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EEE-5518-4980-82E1-26E84B87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F47-B52D-4C89-99BB-FCDC447A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AD1-DE07-4A2F-80A0-D9CEAA8D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FB1-16F2-4026-B4AE-F2D67FBD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8007-9FC0-44E9-8C37-AEB820C27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33920" y="3840840"/>
            <a:ext cx="5410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not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rong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species that survive, nor the most intelligent, but the one most responsive to chang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rles Dar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4:24:15Z</dcterms:created>
  <dc:creator>Nan Shastry</dc:creator>
  <dc:description/>
  <dc:language>en-US</dc:language>
  <cp:lastModifiedBy>Nan Shastry</cp:lastModifiedBy>
  <dcterms:modified xsi:type="dcterms:W3CDTF">2005-04-25T20:24:51Z</dcterms:modified>
  <cp:revision>4</cp:revision>
  <dc:subject/>
  <dc:title>Slide 1</dc:title>
</cp:coreProperties>
</file>