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A30-0209-4420-9DD0-FA0720BF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575-47D2-4414-8246-A45C9984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2E3-C6FA-4891-B20B-C9B3BCF8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C8F-E813-4715-AE1F-5A98CA49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AE0-BCF3-43EA-A866-469F11DF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61A-97EE-4180-940D-140CD5B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384-C382-465A-A317-648DF59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4A2-C5E0-4DC5-A19A-16D8631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082-4336-4CE0-90AA-56D630E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276-7B22-4A63-B305-7209544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14A-BF55-4F02-9A48-0AF4D20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8F2-BFF9-4199-8DDD-F4EC2CE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67D0-0CD0-47D8-ADFA-E421BE32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798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is the antidote to f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Ralph Waldo Em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18:19Z</dcterms:created>
  <dc:creator>Nan Shastry</dc:creator>
  <dc:description/>
  <dc:language>en-US</dc:language>
  <cp:lastModifiedBy>Nan Shastry</cp:lastModifiedBy>
  <dcterms:modified xsi:type="dcterms:W3CDTF">2005-04-25T20:18:37Z</dcterms:modified>
  <cp:revision>1</cp:revision>
  <dc:subject/>
  <dc:title>Slide 1</dc:title>
</cp:coreProperties>
</file>