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8CC-03F0-43C0-9506-BAE3AFCE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9CE-87C2-48D1-8C4B-9FA83EEF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541-73A2-43DD-88DB-105BDDC6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C05-DD7F-4852-B7B0-268111A6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CD7-A2A4-4EC1-8585-19C7277C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30E-51D4-4710-BFFA-70F7767B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DCC-B68E-47F4-9FBD-A915EDC4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80D-092E-4CA9-A4CD-75BCD8D1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F37-D8D9-4E79-9856-679D4FBF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E32-CEC9-46E1-AE1E-DAF18E9F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566-AE30-40F6-9F51-3BC0346D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B11-B35D-4FCB-9F9C-EDA6A9F1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05EF-8268-4E6C-B823-44D28762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2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281736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n't matter who you are, where you come from. The ability to triumph begins with you. Al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prah Winf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20:19:08Z</dcterms:created>
  <dc:creator>Nan Shastry</dc:creator>
  <dc:description/>
  <dc:language>en-US</dc:language>
  <cp:lastModifiedBy>Nan Shastry</cp:lastModifiedBy>
  <dcterms:modified xsi:type="dcterms:W3CDTF">2005-04-25T20:19:16Z</dcterms:modified>
  <cp:revision>1</cp:revision>
  <dc:subject/>
  <dc:title>Slide 1</dc:title>
</cp:coreProperties>
</file>