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30E96-3FA6-4C73-9968-DC1DD0430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19429-E88B-4A4C-A875-89FD0BF08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3CCEE-3BB0-435E-B523-00EECF2C8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817A8-B67B-4E8E-B1F7-E1EEC45BD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318CB-F231-4FC7-B4BF-6F3698119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DE023-D0F9-4133-A3EC-37DC2C31A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87DE3-1143-4857-9B2E-A2EFE11EC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F1501-95B6-4198-B1E5-3C0D29E80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92E9C-E746-4F45-8043-D3F1A2A53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366A9-2B99-4742-938C-A021A7EFC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CE41B-1C7D-462A-AAAA-0C5454EAA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DB4B4-2A56-4E4F-8CDF-AC2D181A7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B4F40-6819-49B4-84FA-B0D1B54C14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360"/>
            <a:ext cx="70102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ision is perhaps our greatest strength.. it has kept us alive to the power and continuity of thought through the centuries; it makes us peer into the future and lends shape to the unknown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Li Ka S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5T20:19:49Z</dcterms:created>
  <dc:creator>Nan Shastry</dc:creator>
  <dc:description/>
  <dc:language>en-US</dc:language>
  <cp:lastModifiedBy>Nan Shastry</cp:lastModifiedBy>
  <dcterms:modified xsi:type="dcterms:W3CDTF">2005-04-25T20:20:01Z</dcterms:modified>
  <cp:revision>1</cp:revision>
  <dc:subject/>
  <dc:title>Slide 1</dc:title>
</cp:coreProperties>
</file>