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63BA-E859-465C-BF6D-C21078645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B3AA-68BA-41AD-A607-85086154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83F6-A292-4CF6-882A-9B12899B1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3A93-0CE1-461E-AB67-28008B3A1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9EE0-549A-4FDE-AD3F-375FE527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A2AB-74B4-4351-9964-9AC515E5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7C49-15A1-4DFD-AC33-9A87998E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2E1D-62F8-4A4E-AAF6-D994BB5F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7435-7401-484E-B1D4-90BA3B8F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FCDB-0EB3-48EB-BD8B-24175762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73B5-99AA-41CB-A644-5B532889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0968-2E02-4734-8B1F-6442855A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EF81-9579-4F84-B51F-912239B3B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349560"/>
            <a:ext cx="4952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are two kinds of people, those who do the work and those who take the credit. Try to be in the first group; there is less competition the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Indira Gand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20:21:06Z</dcterms:created>
  <dc:creator>Nan Shastry</dc:creator>
  <dc:description/>
  <dc:language>en-US</dc:language>
  <cp:lastModifiedBy>Nan Shastry</cp:lastModifiedBy>
  <dcterms:modified xsi:type="dcterms:W3CDTF">2005-04-25T20:22:29Z</dcterms:modified>
  <cp:revision>1</cp:revision>
  <dc:subject/>
  <dc:title>Slide 1</dc:title>
</cp:coreProperties>
</file>