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92A8-77F5-4613-A07E-A74B3C6E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570-E238-4280-A5FA-48176C2D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2B8-0EE6-40F5-BA6E-FAF2D47B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4B9-BE92-4AA5-ABBB-465C0936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5494-966A-4AD9-B031-9248343F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111D-3A8F-4202-A6BD-E0F2B4EA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BF1-B791-4D85-BC42-00702F32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F155-86EC-4D38-BB4E-DB6E399D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CE3-F60B-457A-AFD0-70C89523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2BC-5965-46DC-9207-CABB64FC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F1D3-A182-4929-AC4F-91FF65AD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88F8-6B6A-479B-A1C6-0306D56C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5A9E-F608-46F0-BAB1-6E6ED571E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8320" y="360"/>
            <a:ext cx="4495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of life's failures are men who did not realize how close they were to success when they gave 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homas Ed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20:22:50Z</dcterms:created>
  <dc:creator>Nan Shastry</dc:creator>
  <dc:description/>
  <dc:language>en-US</dc:language>
  <cp:lastModifiedBy>Nan Shastry</cp:lastModifiedBy>
  <dcterms:modified xsi:type="dcterms:W3CDTF">2005-04-25T20:22:56Z</dcterms:modified>
  <cp:revision>1</cp:revision>
  <dc:subject/>
  <dc:title>Slide 1</dc:title>
</cp:coreProperties>
</file>