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8C9-BCE6-41BF-AE20-B4CE602D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0C-CA16-4D1E-A593-409AB99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138-CBD6-4CE5-B795-63C6DAD0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0E3-1B7A-4633-B8D1-CD22E97E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4F5-0414-4005-B6BD-35943FCD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E2F-5859-44FC-8D55-C9E03A0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8AE-63FA-474D-87E2-F8842DC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C32-79AA-45A1-9E5E-55F3B88D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B11-23A2-4E47-86F0-E7CE4155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C27-A456-4D66-9527-F7F727F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C87-1AD3-44DE-B8BE-ED76027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36D-2338-4C98-A88C-5DE02F7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1EB-290D-4349-963B-6937AB08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45709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 is a goal seeking animal. His life only has meaning if he is reaching out and striving for his go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23:19Z</dcterms:created>
  <dc:creator>Nan Shastry</dc:creator>
  <dc:description/>
  <dc:language>en-US</dc:language>
  <cp:lastModifiedBy>Nan Shastry</cp:lastModifiedBy>
  <dcterms:modified xsi:type="dcterms:W3CDTF">2005-04-25T20:23:24Z</dcterms:modified>
  <cp:revision>1</cp:revision>
  <dc:subject/>
  <dc:title>Slide 1</dc:title>
</cp:coreProperties>
</file>