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5DD-6E1A-4731-AE65-8668B741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F9A-FCA8-4DBB-B9E6-1AE6BFE1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689-6F29-4EC7-BDB1-99245DC5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2C3-2093-4FF2-A34B-4C02A6D49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1C6C-7F57-4B0B-9D9C-8C90B55D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BD7C-EE57-433E-BCDB-0FBD199B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1F0-78CB-4AC2-A4A0-CCA06FE1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1FB0-3CF1-4281-A348-CAC06D6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336-BBEF-4A4E-907C-C2ACAB5B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0E82-A768-4DBE-A68F-7E3BECB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0DF-1551-4441-96EF-0ABC9E7E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728-11F0-417E-A116-065022A8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AD81-89D2-43B6-98BC-3D0643A77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28800" y="60120"/>
            <a:ext cx="7086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Character is like a tree and reputation its shadow. The shadow is what we think it is; the tree is the real th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- Abraham Lincol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20:23:48Z</dcterms:created>
  <dc:creator>Nan Shastry</dc:creator>
  <dc:description/>
  <dc:language>en-US</dc:language>
  <cp:lastModifiedBy>Nan Shastry</cp:lastModifiedBy>
  <dcterms:modified xsi:type="dcterms:W3CDTF">2005-04-25T20:23:55Z</dcterms:modified>
  <cp:revision>1</cp:revision>
  <dc:subject/>
  <dc:title>Slide 1</dc:title>
</cp:coreProperties>
</file>