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645-C690-4194-B269-2E7F700B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0D6-84DC-4F89-BA20-CB773D2B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3DB-A51C-490E-A37D-DB782E8C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AF9-BA6B-453D-BE35-7DBEB019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8C4-DC5C-4C32-9649-0B197F90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697-C5C3-412F-A594-5633269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16B-4941-4A78-ADB9-84CF25EF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CD9-265E-4200-B956-75D20E4B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35F-A0A1-48D6-92B5-A425D555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774-0251-4020-A9B4-7D80F16E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692-6165-4E37-95C0-5B06A971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0F3-9070-4BD3-8C42-DB47ABE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BE0D-DA36-4495-B265-0B2D858D7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76104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lure is impossible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usan B. Ant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24:21Z</dcterms:created>
  <dc:creator>Nan Shastry</dc:creator>
  <dc:description/>
  <dc:language>en-US</dc:language>
  <cp:lastModifiedBy>Nan Shastry</cp:lastModifiedBy>
  <dcterms:modified xsi:type="dcterms:W3CDTF">2005-04-25T20:24:26Z</dcterms:modified>
  <cp:revision>1</cp:revision>
  <dc:subject/>
  <dc:title>Slide 1</dc:title>
</cp:coreProperties>
</file>