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B99-7876-4A5A-9A30-241C22E7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36160"/>
            <a:ext cx="8534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E0F-0A75-4B83-AA63-0643C0D9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188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3616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1880" y="383616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550-8E59-40AE-9360-B2C64DF7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4000" y="14479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9400" y="14479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361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4000" y="38361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9400" y="38361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7AC-5711-4FB2-92C9-EC8A11CF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0D4C-942B-4543-B5DB-F3C53F17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0FD0-9813-486E-B84B-DA2AF367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CCD0-9727-4AC5-AB6D-121A44FC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164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880" y="1447920"/>
            <a:ext cx="4164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147A-D01B-4C71-974D-D58C0E5E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1096-0923-4545-BBE0-BEC8BEC3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B1D6-7C1E-459B-AE8B-CA4FE4CA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1880" y="1447920"/>
            <a:ext cx="4164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383616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DBBC-733D-4AE4-AD7C-8AB0840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3A1-1700-4537-800E-76AE36B0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164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188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1880" y="383616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4C5D-6A50-4412-8E07-1D9C3D01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88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3836160"/>
            <a:ext cx="8534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233B-0AA8-4093-BC01-F73F01B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3836160"/>
            <a:ext cx="8534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DD73-6C71-41EE-8484-5A35DEE1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188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383616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1880" y="383616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5B03-7595-4205-B4FB-5B64F974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4000" y="14479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9400" y="14479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38361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4000" y="38361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9400" y="383616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21FD-775B-40E0-A303-E9D4AAA1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AA1-C951-4A77-BDF5-4EABD497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164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1880" y="1447920"/>
            <a:ext cx="4164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E8A-25C1-4B03-8161-10E8BA06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35D-6B47-4983-B313-349D6687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5BC-B7E1-415D-8D8A-3974A375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1880" y="1447920"/>
            <a:ext cx="4164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3616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742-8BB9-489E-9F68-71E5796A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164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88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1880" y="383616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515-9560-4C63-9F3C-5966CEE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880" y="1447920"/>
            <a:ext cx="4164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36160"/>
            <a:ext cx="8534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42C-4D3C-4DBA-BE9B-B1BE63DF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QGL50002" descr=""/>
          <p:cNvPicPr/>
          <p:nvPr/>
        </p:nvPicPr>
        <p:blipFill>
          <a:blip r:embed="rId2"/>
          <a:srcRect l="0" t="20846" r="4173" b="12500"/>
          <a:stretch/>
        </p:blipFill>
        <p:spPr>
          <a:xfrm>
            <a:off x="6858000" y="0"/>
            <a:ext cx="2286000" cy="159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8613-461E-485F-AAB8-20AAD563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QGL50002" descr=""/>
          <p:cNvPicPr/>
          <p:nvPr/>
        </p:nvPicPr>
        <p:blipFill>
          <a:blip r:embed="rId2"/>
          <a:srcRect l="0" t="20846" r="4173" b="12500"/>
          <a:stretch/>
        </p:blipFill>
        <p:spPr>
          <a:xfrm>
            <a:off x="2666880" y="0"/>
            <a:ext cx="3733920" cy="2597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47D8-021B-44E3-A262-DA8527E43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umble Frog Dis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 New Ro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5T16:57:14Z</dcterms:created>
  <dc:creator>nshastry</dc:creator>
  <dc:description/>
  <dc:language>en-US</dc:language>
  <cp:lastModifiedBy>nshastry</cp:lastModifiedBy>
  <dcterms:modified xsi:type="dcterms:W3CDTF">2001-04-15T16:57:27Z</dcterms:modified>
  <cp:revision>1</cp:revision>
  <dc:subject/>
  <dc:title>The Humble Frog Dissection</dc:title>
</cp:coreProperties>
</file>