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24E-FD6E-46B9-A50E-1533143B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BA8E-3AB1-42E4-8DFF-28DEF18D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909-71B8-4B7D-8D10-7FA3CED1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D22-6892-43FC-B2D9-905A5333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224D-9A15-439B-9910-9CDAC2B0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DAF0-94C0-49EE-B7D8-8E1E106E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8C35-D557-47A7-A980-78CE672C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EC7C-6571-4BF4-92B9-FE63B36A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912F-7931-4592-8B5E-C42865A6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2244-26FF-47FD-B469-4CC58AE9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42FE-C097-4B45-9DDD-B446753C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C86C-61F1-4674-843C-29E96386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28D7-AB44-42B2-9ADB-57BB2599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EB5D-2BFB-48AC-9F40-9244E00F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068F-2C15-49E2-B69A-1148E793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0F44-1ADA-4111-BAE8-574ABF60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9957-95A2-4C9D-9A1A-31241A08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556-5E1C-4D76-97D8-34DB6846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1E7-992E-4A5E-B646-CB2A8B5D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332D-B029-42CA-9B85-46AEFB0F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CAC2-B207-46B8-B504-5A03078D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656-BB3D-415A-8CDB-CCC46CBA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FC6B-3DAA-490F-B039-DA091851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285C-92B4-4643-A9EC-ADBD0779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2163-78B8-4401-AF9C-AB1AC5E43C92}" type="slidenum">
              <a:rPr b="0" lang="en-US" sz="14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81D5-FE79-46A1-B629-F91F28CAEED8}" type="slidenum">
              <a:rPr b="0" lang="en-US" sz="14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59480" y="0"/>
            <a:ext cx="1784520" cy="1571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562720" y="0"/>
            <a:ext cx="1774800" cy="1460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962520" y="0"/>
            <a:ext cx="149220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057400" y="0"/>
            <a:ext cx="1793880" cy="1692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720800" cy="1801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Kids and Fear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rial Fon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359480" y="5286240"/>
            <a:ext cx="17845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5397480"/>
            <a:ext cx="177480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92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350120" y="0"/>
            <a:ext cx="179388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208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02:22:58Z</dcterms:created>
  <dc:creator>nshastry</dc:creator>
  <dc:description/>
  <dc:language>en-US</dc:language>
  <cp:lastModifiedBy>nshastry</cp:lastModifiedBy>
  <dcterms:modified xsi:type="dcterms:W3CDTF">2001-03-29T02:23:15Z</dcterms:modified>
  <cp:revision>1</cp:revision>
  <dc:subject/>
  <dc:title>Kids and Fear</dc:title>
</cp:coreProperties>
</file>