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D639-35FF-48F7-A919-0C8A3AF7F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81E6-D624-4C1A-A9C5-DAD0F745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C6B0-7AE3-4D39-833E-CFED752E1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45BD-3E3A-489A-A75A-05517C12B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EF43-44F4-4803-B0EC-C65CFC8D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BF05-25F0-422C-A2C8-4A36001F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7460-373D-4FC2-A8D0-01C26EC7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A62C-2DFB-421E-B34E-0756470A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6E45-E1B6-4539-9D40-B482FF73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633B-2011-4761-BDEC-83C2CBD9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752A-9007-4710-8F0B-B6571DFE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DD3C-7642-4203-9ECB-900EFFAA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FEF9-EF92-4660-B352-0AE5994D3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his Work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 the next slide in the first slide placement before your presentation or in the position you want it to play in your present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programmed to start on clicking the screen area with your mouse (You must be in Slide Show mode – View menu and choose Slide Show or click your F5 button on the keyboar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escape the slide by clicking your ESC button ( to end the presentation show) or by clicking the forward arrow on your keyboard to go to the next sl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99840" y="6095880"/>
            <a:ext cx="54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K YOU FOR SUPPORTING BRAINY BETT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086600" cy="53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9T22:58:59Z</dcterms:created>
  <dc:creator>Nandini Shastry</dc:creator>
  <dc:description/>
  <dc:language>en-US</dc:language>
  <cp:lastModifiedBy>Nandini Shastry</cp:lastModifiedBy>
  <dcterms:modified xsi:type="dcterms:W3CDTF">2006-08-01T18:56:17Z</dcterms:modified>
  <cp:revision>9</cp:revision>
  <dc:subject/>
  <dc:title>How This Works…</dc:title>
</cp:coreProperties>
</file>