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C71-30A5-4EE4-A548-3FF3ACF5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9A6-E76F-4596-8894-F8ED19B7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1BA-A9C1-4822-A98D-3728CA13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CF5-7922-4AEE-8381-D5B41F79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B75-0DD2-43E3-937B-B690176A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658-CB35-4477-AC27-0A011BB4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6FD-FD5D-4BBB-B221-17707086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358-83B9-4B1E-B5AC-548850F3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376-51E3-4D1C-B572-81BFAF1C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954-82BA-4B5A-821C-26AD17A7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B18-0876-44E2-876A-79648BDB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6A0-62BD-4F28-B87A-D9A18397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D173-6BB0-4BFC-A728-08B9D9B43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is Wor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the next slide in the first slide placement before your presentation or in the position you want it to play in your 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grammed to start on clicking the screen area with your mouse (You must be in Slide Show mode – View menu and choose Slide Show or click your F5 button on the keyboar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escape the slide by clicking your ESC button ( to end the presentation show) or by clicking the forward arrow on your keyboard to go to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9840" y="609588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 YOU FOR SUPPORTING BRAINY BET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9T22:58:59Z</dcterms:created>
  <dc:creator>Nandini Shastry</dc:creator>
  <dc:description/>
  <dc:language>en-US</dc:language>
  <cp:lastModifiedBy>Nandini Shastry</cp:lastModifiedBy>
  <dcterms:modified xsi:type="dcterms:W3CDTF">2006-07-29T23:03:40Z</dcterms:modified>
  <cp:revision>5</cp:revision>
  <dc:subject/>
  <dc:title>How This Works…</dc:title>
</cp:coreProperties>
</file>