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905-4365-4E6E-A1D8-E7F7CBE7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29B-74FF-44D1-AC32-0698D54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1E3-14BF-4A83-A17E-34D91D16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50B-9E1E-4D2A-B6C0-BACDBDF6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1DA-77F6-4ED2-86AC-A54E40A2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04B-E033-40E5-9105-92236F1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CD2-79CB-4001-8905-D0E0919D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85F-AD27-4CAC-985C-3E20BF45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A50-16D9-4169-87F3-DDCA1B4D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FEC-3F8C-4DB8-A4D6-2A7A143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156-1BD0-4816-9596-AB07576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D43-D01A-4073-B424-A86BD21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090-BD04-45E5-A716-6D81C837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7-30T15:53:05Z</dcterms:modified>
  <cp:revision>6</cp:revision>
  <dc:subject/>
  <dc:title>How This Works…</dc:title>
</cp:coreProperties>
</file>