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A1C-7189-458B-85BA-8293E2C8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B1C-B303-483C-8EBB-82558969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131-419F-4A3F-91B4-EF4AEAD8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7CE-260E-424E-9E42-C35214F4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227-A97E-4BD6-86BC-24762E2B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5A2-7D95-4CE1-ACCA-E37C3EA6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122-7099-48C5-98F2-A4174AD5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35D-424B-48F3-AE65-37EE51E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6ED-335E-416E-84FF-20BB84DA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000-546F-472A-B8C2-BE04D937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DEA-8FF5-4CB2-B1F4-4B0CDBF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0B8-B2D1-4DF9-96BB-AEB3BC6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7632-15EF-403F-BFF0-A213B2E81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is Wor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next slide in the first slide placement before your presentation or in the position you want it to play in your pres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grammed to start on clicking the screen area with your mouse (You must be in Slide Show mode – View menu and choose Slide Show or click your F5 button on the keyboa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cape the slide by clicking your ESC button ( to end the presentation show) or by clicking the forward arrow on your keyboard to go to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9840" y="609588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 FOR SUPPORTING BRAINY BET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2:58:59Z</dcterms:created>
  <dc:creator>Nandini Shastry</dc:creator>
  <dc:description/>
  <dc:language>en-US</dc:language>
  <cp:lastModifiedBy>Nandini Shastry</cp:lastModifiedBy>
  <dcterms:modified xsi:type="dcterms:W3CDTF">2006-07-29T23:03:17Z</dcterms:modified>
  <cp:revision>4</cp:revision>
  <dc:subject/>
  <dc:title>How This Works…</dc:title>
</cp:coreProperties>
</file>