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48B-ECDF-4012-A8FB-56A21E92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093-6897-48EB-888B-3CD2B5A1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51F-57E6-450D-B5EA-F9E737A9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947-6464-4568-ACE5-7A64474A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FFAE-E1AC-43DF-AC16-0D4BF3AE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995-AA66-4FB2-B940-89A2DAE1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A10F-2024-4FB5-903E-11FDA22C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C7C-849B-4E4D-80C2-CBCEA7DF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263-0EE3-4162-A68F-2E1A5A9F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1C9-0666-4A29-8836-CB76A9B7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148-D567-44AD-AD0F-B21CBA96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AF2-C110-40A8-B10E-C8ACAF01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B1CA-8EE7-4BE5-B105-DF55AA8A5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is Wor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the next slide in the first slide placement before your presentation or in the position you want it to play in your 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grammed to start on clicking the screen area with your mouse (You must be in Slide Show mode – View menu and choose Slide Show or click your F5 button on the keyboar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escape the slide by clicking your ESC button ( to end the presentation show) or by clicking the forward arrow on your keyboard to go to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9840" y="609588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 YOU FOR SUPPORTING BRAINY BET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9T22:58:59Z</dcterms:created>
  <dc:creator>Nandini Shastry</dc:creator>
  <dc:description/>
  <dc:language>en-US</dc:language>
  <cp:lastModifiedBy>Nandini Shastry</cp:lastModifiedBy>
  <dcterms:modified xsi:type="dcterms:W3CDTF">2006-08-03T17:35:23Z</dcterms:modified>
  <cp:revision>5</cp:revision>
  <dc:subject/>
  <dc:title>How This Works…</dc:title>
</cp:coreProperties>
</file>