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4B7-0BCC-4E32-B43F-23339126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C0-FF81-4C21-81E1-E4C98EC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27D-6C20-46D0-AE9B-226A3108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90F-BC07-4D55-9C88-779737A2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49D-CC70-44A8-95C7-DC7B9AC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8BE-46C4-465D-8072-E110612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1DC-912D-42F3-894B-A08AEAA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999-22E0-48F5-8939-B66AADD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F04-D970-41B6-B42D-D825176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229-E0DA-4498-9BE5-B0BC758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A5D-4DC6-44BF-A9BE-CE0A772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4DC-202F-460D-923F-34F7613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910-FE5F-44A9-8F28-E8E62028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8-07T22:22:11Z</dcterms:modified>
  <cp:revision>5</cp:revision>
  <dc:subject/>
  <dc:title>How This Works…</dc:title>
</cp:coreProperties>
</file>