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11F-4701-4B2B-9DE7-3786AD75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B9B-7B6D-4A2F-980F-8BA548FD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155-DD94-4C2D-9AC8-D816727F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560-7059-485F-8311-070F1839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F71-6316-4CA8-94AD-B1B80E0C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CA4-8BC8-40B8-97CD-6BA877A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8D6-8B9F-4EB3-AB25-69F20ACF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305-3DCF-4056-A707-5A6445A9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EE8-B3F0-4FA6-B8A5-03445569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BF7-1F3C-471E-880F-08DBF22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DB6-8F66-4E2C-8C88-035C87D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AFD-E91E-48BE-BDA4-D20E262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B198-5DF0-421D-BB05-74B7D171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is Wor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next slide in the first slide placement before your presentation or in the position you want it to play in your 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grammed to start on clicking the screen area with your mouse (You must be in Slide Show mode – View menu and choose Slide Show or click your F5 button on the keyboa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cape the slide by clicking your ESC button ( to end the presentation show) or by clicking the forward arrow on your keyboard to go to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9840" y="609588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 FOR SUPPORTING BRAINY BET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2:58:59Z</dcterms:created>
  <dc:creator>Nandini Shastry</dc:creator>
  <dc:description/>
  <dc:language>en-US</dc:language>
  <cp:lastModifiedBy>Nandini Shastry</cp:lastModifiedBy>
  <dcterms:modified xsi:type="dcterms:W3CDTF">2006-08-01T18:13:29Z</dcterms:modified>
  <cp:revision>8</cp:revision>
  <dc:subject/>
  <dc:title>How This Works…</dc:title>
</cp:coreProperties>
</file>