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D27-65C4-43CC-AE81-091D46E7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E5A-CC11-4944-8397-C1EC250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732-01BC-4606-A5AE-D5AD303E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FDF-BB36-4FF2-81B4-B9B60C60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57A-BD2A-485F-994E-65C16B9A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9FA9-54F4-43D5-A564-20F6021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F58-64FE-430D-849D-C408240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339-9936-4D4A-9C5B-300995C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0D0-30A2-4B5E-B78E-4866AA1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B9B-272D-4FE7-827F-D360AB6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19E4-3C36-4F2D-8AA2-5F0CE0E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8F9-1AA2-45F0-8771-E50C15C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42A1-F659-4CA2-9BE9-6D490DF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C413-CE8C-4969-9ADF-A0C64EB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FE60-51E4-44AC-858D-F3DEE09B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ED37-557C-4F13-ABA9-35B7F7A6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77F4-5B60-48AB-86A4-52139D39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441-F638-4049-9A31-CFD4E109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A48-7CBA-4C06-A087-CD6618F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962-5B09-4CC5-8E91-D12B5744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56A-8314-4646-81A1-291BB74A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A1E-B582-4028-B37D-405FF76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695-4255-4D65-BA86-02D0144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D4D-36E3-4268-B2F5-720D14A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AC2-CD1C-4A19-9DDF-EBFD595533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C53-150E-4C17-AA8A-64EF2058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314-C70D-48F4-8496-6DC5176598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BDB8-6267-4AF2-B652-117F65A0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www.brainybetty.com 2006 and our licen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78B-B49C-4775-AB12-66FFE5EE3B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30D0A-475F-415D-8527-82D6E87A1B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20:01Z</dcterms:created>
  <dc:creator>Nandini Shastry</dc:creator>
  <dc:description/>
  <dc:language>en-US</dc:language>
  <cp:lastModifiedBy>Nandini Shastry</cp:lastModifiedBy>
  <dcterms:modified xsi:type="dcterms:W3CDTF">2006-10-20T13:20:40Z</dcterms:modified>
  <cp:revision>2</cp:revision>
  <dc:subject/>
  <dc:title>Slide 1</dc:title>
</cp:coreProperties>
</file>