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505-602E-42FF-AEC0-E7FFA397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CF5-5355-45A5-80A2-9D132DAE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020-E0AA-493C-8BBD-64C051E6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F24-8147-49D1-85C6-2945E5EC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B7CC-A5EE-42C8-88B0-2326462C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4183-4C86-4E2E-A7BF-AC384106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CBCC-1613-4A3B-888B-B60C04A3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5C08-AB62-4FA6-A946-41CB74A0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F164-3035-41F2-8930-E8F6BA36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B3F6-024C-474E-BAFB-A7F173EA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B90D-502E-4444-96E5-034DBA24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2C3-9A7F-4CA1-A119-34DAE56A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E163-58E0-49AE-9020-6A18970F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D434-F621-4F58-9D78-EA0BC8CB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63D2-50E0-46AD-8C58-7ED46A32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A8C4-CDB0-45DA-8F6A-8E226A3C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DF22-5814-412D-B48F-6853F690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BD5-5F28-41D2-A84F-28A6EB09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48A-C653-405F-8E9F-115B5430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BDC-55A5-4582-B2D3-5F470EDB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477-8C4A-47CE-9739-3FB0773F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7AF-E4D3-4283-91E9-3D763008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AF5-F9E2-4611-9F8E-153CE105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41E-C5A2-4EE0-BB30-1615933C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E254-2CB9-4A33-8B38-09E2F7C79C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6651-5CB2-4236-AE35-F2C4E0D3C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B3D8-1900-4790-AC73-A8B5E9685B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442E-B0BE-495B-A916-2FCFDEFC1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14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www.brainybetty.com 2006 and our licens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FEE-5EFC-4397-9CBA-495A1BD122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F0294-1F7F-48D4-9200-C7CE5BA26C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3:20:01Z</dcterms:created>
  <dc:creator>Nandini Shastry</dc:creator>
  <dc:description/>
  <dc:language>en-US</dc:language>
  <cp:lastModifiedBy>Nandini Shastry</cp:lastModifiedBy>
  <dcterms:modified xsi:type="dcterms:W3CDTF">2006-10-20T13:21:06Z</dcterms:modified>
  <cp:revision>3</cp:revision>
  <dc:subject/>
  <dc:title>Slide 1</dc:title>
</cp:coreProperties>
</file>