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B361-CA45-4931-A13A-54A45148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AA1-8D66-4A2E-927A-725A39DA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F9F-9670-4919-B4D5-2DE2F13E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F62-EEA1-404A-A15A-F496A151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BEDE-D5E4-4B1E-9E52-3609D996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29D9-B92A-4D80-96F2-2C45B3A9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3262-90AC-4E97-8443-0C3002D9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7A60-7B6D-44E8-A1D3-67BBCF7B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AF7D-A861-4A4A-8621-B7FCB881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0503-2D59-48D1-B768-083EFBE7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8988-77BD-488D-9D4E-5E1EE598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D9B0-56DD-4E6B-8225-040776E8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49E8-D7C5-4F01-B4A7-6B3D63D0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727C-AE87-4695-8FE3-D875CCFE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97E2-B10C-4059-839A-BFD5F41D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1A41-2236-4D64-A092-93DF211E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7041-F84D-4A56-B043-C2B68F03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7B9-716C-4A35-8E2E-6B499132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5B1B-FB11-4999-84C6-BD2623D8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991-C058-4453-8977-48D3DC18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3F73-C9B8-4D5B-8C7F-CF9ECFE9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103-F3BA-4404-B25C-BB6EE7C1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484-7498-406F-8944-6897789E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B49E-CBD9-4C43-A207-78D39A1A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DE23-ED22-4FC0-A67E-71BBFB0043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E7FA-861F-4565-A91A-F6BC45790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4B7A-8004-45F3-B674-7BC1AF4FDA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7B87-D3F7-469B-BE61-CDD79D6ED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848720" cy="575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www.brainybetty.com 2006 and our licenso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367-52D5-4499-B762-3F3FAF0068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D1843-660D-444B-AB19-04A3C8CC3C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3:20:01Z</dcterms:created>
  <dc:creator>Nandini Shastry</dc:creator>
  <dc:description/>
  <dc:language>en-US</dc:language>
  <cp:lastModifiedBy>Nandini Shastry</cp:lastModifiedBy>
  <dcterms:modified xsi:type="dcterms:W3CDTF">2006-10-20T13:21:28Z</dcterms:modified>
  <cp:revision>4</cp:revision>
  <dc:subject/>
  <dc:title>Slide 1</dc:title>
</cp:coreProperties>
</file>