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88D-6C48-4E2D-8EF1-14164052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043-7686-4C73-8824-2E3801D7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CDB5-727D-40A9-891D-AA29A5B0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C39-21AC-46CE-A704-B162B9E5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C1C5-BE25-41BC-A597-5509524B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3F98-B9AD-4FEA-BD0B-A08A2B7B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6B2D-FCE3-4A0D-A169-2CFD449A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2994-5DEA-4EE3-9D1C-E7544360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CD87-C4EC-4C5C-BFE2-ED6760B0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A87F-1BD4-43CB-AFCF-F42E2661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CAA5-1C66-4760-85C9-56914898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9E3-D195-4263-97E9-1E4CE5B3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126F-7AA2-48CB-B257-52AAF656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E9FF-67B9-4F31-AD76-B32EBF52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BA2E-572D-4A57-9C93-85197C71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6415-B497-40AE-B35F-978F6480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BA07-E145-4543-B3DF-89EF2538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FCE-A43B-4E39-BC22-D2D74506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2B4-F8BC-45BE-952D-C14DD162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D9A-FA8D-4D90-A346-8A428756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D95-9C05-4F6B-9D42-3C0C572F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3B8B-D0AE-49BF-8A7A-6F4F1B37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323-5ED7-43F3-8ECB-52BA8B52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553-0332-4B94-AC35-B1401C73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B66D-B887-488F-9B2C-7E3417D865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A567-832C-4592-9BC1-4C88B3FDB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E72F-61EA-4ACA-AD92-B523D4A4BD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16BC-5395-4BDC-B94B-412077EA5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63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www.brainybetty.com 2006 and our licenso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345-C750-42FD-800D-D096DED6BF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AEF90-11BA-4AAD-807D-8CB42F8560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3:20:01Z</dcterms:created>
  <dc:creator>Nandini Shastry</dc:creator>
  <dc:description/>
  <dc:language>en-US</dc:language>
  <cp:lastModifiedBy>Nandini Shastry</cp:lastModifiedBy>
  <dcterms:modified xsi:type="dcterms:W3CDTF">2006-10-20T13:21:46Z</dcterms:modified>
  <cp:revision>5</cp:revision>
  <dc:subject/>
  <dc:title>Slide 1</dc:title>
</cp:coreProperties>
</file>