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A614-0F8D-4B01-9A45-5DA2BB64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7EA8-8EE8-4F20-AD6F-F434E1B7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0963-D015-41AB-B529-0D34FB81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E091-8D99-4B5C-906C-51468CA8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F0A7-D30B-4CA2-AA37-028A20CD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8DB5-1B32-46A4-BF84-CF29CCE6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1EF8-75F5-463C-B98E-F3ACF0DE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71FB-FF1B-482C-AABE-86A157D2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9341-A632-4B43-A383-63513150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C5FA-D511-4841-897D-14D40E8B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6841-0896-45A3-9697-77700AC1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5731-0A37-4B91-88A7-1C8B5400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590E-8014-4338-A277-01A3FB34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1429-0548-4D21-877B-6FA778E8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ECE9-21D2-442A-A72B-477AC1E2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0643-765D-4ED5-B36E-18AA32D0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91FA-B0BF-4C44-A33F-3C3E3868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7ED-E7BF-47D3-831F-3D64FA24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9653-32D7-4A4E-A55B-C75FA481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DDFC-B10A-4CEC-9FFD-C043A78D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AF6-B1A0-45BD-B941-63E7EE02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C7D1-151A-4E66-BA02-2F4F8E3F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E425-35F2-4D98-900D-38B8B903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6C8-30C7-449B-9D4D-B396B958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6EE0-4D58-4282-B732-FEDE5F73BDA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97F1-C0E7-48A1-A675-F5C3511B5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55F1-D886-48F0-BF1D-23B73FD55B4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D68E-F5B8-4784-8F0D-2BB25B3BD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6086520" cy="570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www.brainybetty.com 2006 and our licenso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3BC-C7EE-4D1C-B978-2BA494A06A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1441A-EBBE-4819-9D5F-6D2100AA2B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3:20:01Z</dcterms:created>
  <dc:creator>Nandini Shastry</dc:creator>
  <dc:description/>
  <dc:language>en-US</dc:language>
  <cp:lastModifiedBy>Nandini Shastry</cp:lastModifiedBy>
  <dcterms:modified xsi:type="dcterms:W3CDTF">2006-10-20T13:22:11Z</dcterms:modified>
  <cp:revision>6</cp:revision>
  <dc:subject/>
  <dc:title>Slide 1</dc:title>
</cp:coreProperties>
</file>