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1EE-CEFE-47F1-889E-F34CE4C9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B6A-F547-41F8-B98D-0587E240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DA4-1D6D-446F-A4C0-50F5CD33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434-AF61-4F81-9EC2-A34C7DD5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103E-C19F-4F93-8747-677C15F2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575-FD68-45E7-B14B-FA9C7F87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F5E-04B4-4B74-AC5A-E34361EE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3EF-9368-4FF7-ABA4-31549C46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4D2-EC95-449A-8641-2AC7DE2B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0CF-9CF2-4E39-9423-D5500514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DE3-8FCE-437E-838B-6D5F5E65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11C-8E3B-4F12-9C0C-FA972BD8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E1D5-C03A-417A-B9C3-BA1666B98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990720" cy="1192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73200" y="2895480"/>
            <a:ext cx="2078280" cy="2455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09480"/>
            <a:ext cx="5867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Soopafresh"/>
              </a:rPr>
              <a:t>Fall </a:t>
            </a:r>
            <a:br>
              <a:rPr sz="8000"/>
            </a:br>
            <a:r>
              <a:rPr b="0" lang="en-US" sz="8000" spc="-1" strike="noStrike">
                <a:solidFill>
                  <a:srgbClr val="ff9900"/>
                </a:solidFill>
                <a:latin typeface="Soopafresh"/>
              </a:rPr>
              <a:t>Into </a:t>
            </a:r>
            <a:br>
              <a:rPr sz="8000"/>
            </a:br>
            <a:r>
              <a:rPr b="0" lang="en-US" sz="8000" spc="-1" strike="noStrike">
                <a:solidFill>
                  <a:srgbClr val="ff9900"/>
                </a:solidFill>
                <a:latin typeface="Soopafresh"/>
              </a:rPr>
              <a:t>Fun </a:t>
            </a:r>
            <a:br>
              <a:rPr sz="8000"/>
            </a:br>
            <a:r>
              <a:rPr b="0" lang="en-US" sz="4800" spc="-1" strike="noStrike">
                <a:solidFill>
                  <a:srgbClr val="000000"/>
                </a:solidFill>
                <a:latin typeface="Soopafresh"/>
              </a:rPr>
              <a:t>at the School Carnival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65680" y="0"/>
            <a:ext cx="52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21:45:57Z</dcterms:created>
  <dc:creator>Nan Shastry</dc:creator>
  <dc:description/>
  <dc:language>en-US</dc:language>
  <cp:lastModifiedBy>Nan Shastry</cp:lastModifiedBy>
  <dcterms:modified xsi:type="dcterms:W3CDTF">2002-10-10T21:46:05Z</dcterms:modified>
  <cp:revision>1</cp:revision>
  <dc:subject/>
  <dc:title>PowerPoint Presentation</dc:title>
</cp:coreProperties>
</file>